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479D-71FC-4E15-97BE-6CD596EF0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CBD0-D8AF-41E6-98FA-B3900939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4763-6219-425E-A4EA-A73A105E5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D305-872D-4684-84E8-E40468687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3F41-02C2-451E-B12B-605739C5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1221-B2E5-4030-BED6-FF3FD987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DDF9-CAA0-4771-9143-7516B092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029F-0963-4001-9EB7-821CD868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9822-5510-4258-A033-E78F20ED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C7C9-A8AE-4F53-84A3-7F31E5A1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A77D-D44B-4D48-8771-D6FFF12C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C2F8-D409-4232-8D94-03F5D57A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0BA8-5840-46DB-9D66-BFAF0D61E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79640" y="765000"/>
            <a:ext cx="4105080" cy="28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English Scholarship Ex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ptember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08720" y="3357720"/>
            <a:ext cx="3311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nglish Facilit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eacher Professional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7993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403280" y="836640"/>
            <a:ext cx="604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3300"/>
                </a:solidFill>
                <a:latin typeface="Arial"/>
              </a:rPr>
              <a:t>Sectio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Close Reading of Unfamiliar Tex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comparison of two written texts, one poetry, one prose, with an emphasis on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crafting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799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476360" y="692280"/>
            <a:ext cx="5975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3300"/>
                </a:solidFill>
                <a:latin typeface="Arial"/>
              </a:rPr>
              <a:t>Section A  -  Tips for suc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guidelines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in the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nclude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wider discussion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of the themes/ideas too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void listing technique and effect ; look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holistically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at each pi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ead the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introductory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para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Keep answer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across both tex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799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47640" y="260280"/>
            <a:ext cx="6337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3300"/>
                </a:solidFill>
                <a:latin typeface="Arial"/>
              </a:rPr>
              <a:t>Section B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Response to Literature and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 response to literature / language which you have studie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f you choose short texts, it must involve at least tw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Genre-based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o not repeat material across Sections B and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76360" y="5950080"/>
            <a:ext cx="69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Times New Roman"/>
              </a:rPr>
              <a:t>Shakespeare, novel, film, TV, poetry, short stories, theatre, aspects of language, journalism, non-fiction, online texts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799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476360" y="549360"/>
            <a:ext cx="61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3300"/>
                </a:solidFill>
                <a:latin typeface="Arial"/>
              </a:rPr>
              <a:t>Section C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Exploring Issues in Literature and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n exploration of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Arial"/>
              </a:rPr>
              <a:t>issues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in literature / language studie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19280" y="4149720"/>
            <a:ext cx="59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***Thesis-driven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, not text dr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799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692360" y="907920"/>
            <a:ext cx="53276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ff3300"/>
                </a:solidFill>
                <a:latin typeface="Arial"/>
              </a:rPr>
              <a:t>Sections B and C</a:t>
            </a:r>
            <a:r>
              <a:rPr b="0" lang="en-NZ" sz="2200" spc="-1" strike="noStrike">
                <a:solidFill>
                  <a:srgbClr val="ff3300"/>
                </a:solidFill>
                <a:latin typeface="Arial"/>
              </a:rPr>
              <a:t>  -  </a:t>
            </a:r>
            <a:r>
              <a:rPr b="1" lang="en-NZ" sz="2200" spc="-1" strike="noStrike">
                <a:solidFill>
                  <a:srgbClr val="ff3300"/>
                </a:solidFill>
                <a:latin typeface="Arial"/>
              </a:rPr>
              <a:t>Tips for Succes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3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en-NZ" sz="2300" spc="-1" strike="noStrike">
                <a:solidFill>
                  <a:srgbClr val="000000"/>
                </a:solidFill>
                <a:latin typeface="Arial"/>
              </a:rPr>
              <a:t> on the question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300" spc="-1" strike="noStrike">
                <a:solidFill>
                  <a:srgbClr val="000000"/>
                </a:solidFill>
                <a:latin typeface="Arial"/>
              </a:rPr>
              <a:t>Sustain</a:t>
            </a:r>
            <a:r>
              <a:rPr b="0" lang="en-NZ" sz="2300" spc="-1" strike="noStrike">
                <a:solidFill>
                  <a:srgbClr val="000000"/>
                </a:solidFill>
                <a:latin typeface="Arial"/>
              </a:rPr>
              <a:t> your response to it throughou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300" spc="-1" strike="noStrike">
                <a:solidFill>
                  <a:srgbClr val="000000"/>
                </a:solidFill>
                <a:latin typeface="Arial"/>
              </a:rPr>
              <a:t>Don’t skew</a:t>
            </a:r>
            <a:r>
              <a:rPr b="0" lang="en-NZ" sz="2300" spc="-1" strike="noStrike">
                <a:solidFill>
                  <a:srgbClr val="000000"/>
                </a:solidFill>
                <a:latin typeface="Arial"/>
              </a:rPr>
              <a:t> the ques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300" spc="-1" strike="noStrike">
                <a:solidFill>
                  <a:srgbClr val="000000"/>
                </a:solidFill>
                <a:latin typeface="Arial"/>
              </a:rPr>
              <a:t>Address </a:t>
            </a:r>
            <a:r>
              <a:rPr b="1" lang="en-NZ" sz="2300" spc="-1" strike="noStrike">
                <a:solidFill>
                  <a:srgbClr val="000000"/>
                </a:solidFill>
                <a:latin typeface="Arial"/>
              </a:rPr>
              <a:t>ALL parts</a:t>
            </a:r>
            <a:r>
              <a:rPr b="0" lang="en-NZ" sz="2300" spc="-1" strike="noStrike">
                <a:solidFill>
                  <a:srgbClr val="000000"/>
                </a:solidFill>
                <a:latin typeface="Arial"/>
              </a:rPr>
              <a:t>, including quota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300" spc="-1" strike="noStrike">
                <a:solidFill>
                  <a:srgbClr val="000000"/>
                </a:solidFill>
                <a:latin typeface="Arial"/>
              </a:rPr>
              <a:t>Draw up </a:t>
            </a:r>
            <a:r>
              <a:rPr b="1" lang="en-NZ" sz="2300" spc="-1" strike="noStrike">
                <a:solidFill>
                  <a:srgbClr val="000000"/>
                </a:solidFill>
                <a:latin typeface="Arial"/>
              </a:rPr>
              <a:t>parameters</a:t>
            </a:r>
            <a:r>
              <a:rPr b="0" lang="en-NZ" sz="2300" spc="-1" strike="noStrike">
                <a:solidFill>
                  <a:srgbClr val="000000"/>
                </a:solidFill>
                <a:latin typeface="Arial"/>
              </a:rPr>
              <a:t> for discussion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3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NZ" sz="2300" spc="-1" strike="noStrike">
                <a:solidFill>
                  <a:srgbClr val="000000"/>
                </a:solidFill>
                <a:latin typeface="Arial"/>
              </a:rPr>
              <a:t> tex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799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476360" y="836640"/>
            <a:ext cx="5616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3300"/>
                </a:solidFill>
                <a:latin typeface="Arial"/>
              </a:rPr>
              <a:t>Revision</a:t>
            </a:r>
            <a:r>
              <a:rPr b="0" lang="en-NZ" sz="24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ractice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planning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Map the links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across all your tex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exemplars / models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to analyse and compare against your own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ractice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framing the thesis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in introd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Text choice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– knowledge and personal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799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403280" y="404640"/>
            <a:ext cx="6553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3300"/>
                </a:solidFill>
                <a:latin typeface="Arial"/>
              </a:rPr>
              <a:t>Final advi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More tha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00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 h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er ess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ress the chosen topic throug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ntral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si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especially in Section 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quotation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 all questions fir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thusiasm, personal engagement, critical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13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76520" y="914400"/>
            <a:ext cx="642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Purpose of this sessi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187280" y="1988640"/>
            <a:ext cx="7058160" cy="278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What to expect</a:t>
            </a:r>
            <a:br>
              <a:rPr sz="3600"/>
            </a:br>
            <a:br>
              <a:rPr sz="3600"/>
            </a:b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-  Tips and advice</a:t>
            </a:r>
            <a:br>
              <a:rPr sz="3600"/>
            </a:br>
            <a:br>
              <a:rPr sz="3600"/>
            </a:b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-  What responses might look li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799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95280" y="40464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What is the Scholarship exa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03280" y="1773360"/>
            <a:ext cx="6337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netar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red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 qual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lenging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able students in each 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Students must be abl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monstrate high-level critical thinking, abstraction and genera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ate, synthesise and apply knowledge, skills, understanding and ideas to complex situ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799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187280" y="189000"/>
            <a:ext cx="6769440" cy="60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$$$$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e awar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Premier Schola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- at least three Scholarships a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utstand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level: $10,000 each year for three yea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Outstanding Scholar Awa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- a minimum of 3 Scholarships (at least 2 at 'Outstanding' level or more than 3 Scholarships with at least 1 at Outstanding level) - $5,000 each year for three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Top Subject Schola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multiple awards)- the top performer in each subject : $2,000 each year for three yea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Scholarship Awa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- three or more Scholarships subjects  - $2,000 each year for three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3300"/>
                </a:solidFill>
                <a:latin typeface="Arial"/>
              </a:rPr>
              <a:t>Single Subject Awards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- 1 or 2 Scholarships - A 'one-off' award of $500 per su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79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32000" y="549360"/>
            <a:ext cx="65530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How the paper is mark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tant checks within the marking te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erformance Descripto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essay is out of 8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Your record of Scholarship results will sh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The PD which best fitted your 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 The ‘cut off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7993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258920" y="476280"/>
            <a:ext cx="640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Outstanding Performanc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 Performance Descripto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student wi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monstrate extensive knowledge of texts and methods used in crafting them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pond critically with mature ideas and independent refl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monstrate a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ception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evel of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stained critical respon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howing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sist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bility to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ynthesi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knowledge, understanding and argu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799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32000" y="549360"/>
            <a:ext cx="5976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Scholarshi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 Performance Descripto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tudent wi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monstrate extensive knowledge of texts and methods used in crafting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pond critically with mature ideas and independent refl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her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bstantiat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gag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rgu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799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187280" y="1125360"/>
            <a:ext cx="6481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rformance Descriptor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student wil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onstrate knowledge of texts and methods used in crafting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pond critically with mature ideas and independent refle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onstrat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here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bstanti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rgu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7993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476360" y="62064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333360"/>
            <a:ext cx="60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3300"/>
                </a:solidFill>
                <a:latin typeface="Arial"/>
              </a:rPr>
              <a:t>Demanding text and questions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-   It is not necessarily the complexity of the text but how students respond that makes it deman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2060640"/>
            <a:ext cx="67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3300"/>
                </a:solidFill>
                <a:latin typeface="Arial"/>
              </a:rPr>
              <a:t>Respond critically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… initiate an alternative reading or application of theory; take a fresh approach to accepted interpretations; challenge the reader’s understandings; apply or deconstruct theoretical mod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35280" y="4149720"/>
            <a:ext cx="691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3300"/>
                </a:solidFill>
                <a:latin typeface="Arial"/>
              </a:rPr>
              <a:t>Knowledge of methods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used in crafting … such as structure, style, layout, delivery techniques, figurative language, editing, method of narration, rhetorical devices, sound effects, dramatic techniques, characterisation, costume and scrip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03:34:42Z</dcterms:created>
  <dc:creator>Victoria University of Wellington</dc:creator>
  <dc:description/>
  <dc:language>en-US</dc:language>
  <cp:lastModifiedBy>karen melhuish</cp:lastModifiedBy>
  <dcterms:modified xsi:type="dcterms:W3CDTF">2007-12-10T22:21:08Z</dcterms:modified>
  <cp:revision>18</cp:revision>
  <dc:subject/>
  <dc:title>You can use multiple text boxes, and insert pictures. It’s best to use a sans serif font. We’ve used Trade Gothic but Ocean Sans, Helvetica or Arial are other good options.</dc:title>
</cp:coreProperties>
</file>